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2AA-B3BA-427E-A8ED-3C9B76BF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D39-468C-465C-991F-70B5FB85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CF2-D852-4844-962D-C595DC1A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3B0-AA84-4EBB-81A1-FF55F624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AAF0-EDD4-488E-B8CE-603ECFC3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80F6-A931-4368-91E0-6D5C0397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C454-3719-4900-BF57-9B9201C5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5215-6B12-42AE-91CB-5ABD34A0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96A0-91E5-43C7-B976-F80B688E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1E3A-AE96-4590-8300-E85A0DAB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05DF-DE38-4360-BFE2-BCE6F8B3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6E05-8E56-409F-AD9F-495DDDDE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BE68-1E3D-4AB5-B694-84E5CEE8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15B2-0E17-4180-8E10-0E3B9CD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55C5-D956-45F5-984F-6CC6450C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4E7-A82B-4004-92EE-E1C4827D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DF7F-BDB4-46B7-9738-BBC16087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04D7-6AEA-413F-9619-69562FC4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4EFE-473F-44B8-8908-70766F38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3791-3B5B-49EE-9682-7DD54B64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D78C-1B44-435A-A070-AF068926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9D93-0492-4E63-9875-A765F366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9D8-8515-4D4E-BDA3-B2C196A0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14DB5-2D65-4553-B27E-16E935EA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768B-72FD-4F61-AE1C-88FDB21A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939D-42B9-4512-A921-20ADA27E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D4AC-5CDE-4FF7-B0DC-24E4BCA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AB9FF-AC83-4154-B558-9996ECC3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CA153-E221-4A37-AE48-FCE75FA5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CB3B-A71B-4DFB-9FE1-4B791B43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330C-A587-4338-9B34-471D3088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E6ACD-8ADD-460C-86C4-E469EB2A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430CF-B604-4D26-A3B6-F4B92A03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C48-4E0E-4442-92F8-AF234C6E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6D7F-1F65-4AD4-9A92-8CDC5EDA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A348-E5FA-4A0F-A3DD-997D31EA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16B0-2CB3-42C0-91AB-FF3F7BB1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9376-3189-4DC2-B4E0-3302987C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E9BFA-4BD5-4DE0-BBE3-F674D6DD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9C910-2933-48B6-9BF4-8D072A45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5172C-D947-4C50-AA39-386C0482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2537-FF58-4F18-BE8B-5B6CE0BE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B9976-0408-4B9C-B9A8-0BF895CD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54CC2-3472-447E-A9CF-989B714C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241-2318-4AD2-9E29-C7317AE4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32D50-CAB8-4E0F-B4A8-4BDEC1E2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A40ED-C9EC-4DE1-9E70-4C21EFB8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F5820-676B-47FE-877E-C4E75CC4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AE608-157D-4345-B450-A9C20A6C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7F8E-2679-42A7-BF29-7900604C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11C9-A624-4E56-97C3-D1669893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B115-019A-4CC8-978F-C9B2A369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92061-D5C0-4938-8930-0A9C2FCA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9259B-6791-4E46-B06A-436FED18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99D81-1417-433E-9A5F-5C4AEBFC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808-3B82-45A6-90D4-AEA492C5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B9196-1320-449A-9262-A5347144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36C-81B6-4EC4-A9A5-F9FB4BA9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8EF-BEE7-452E-AA3C-5C662E36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A49-4C3C-471D-B047-719C7855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6D491-64B2-4EF9-B824-68945B27988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7BB0C-75F3-4127-8C81-11CBEFAE4DD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B911F-D084-4D5F-A3A4-B8744E6ABAB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5DD2B-7BF2-4B2C-8EE8-03438A052DD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87589-BC6F-4939-B658-F17AE4F3983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114720" y="530280"/>
            <a:ext cx="57736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urke, J. (2008). </a:t>
            </a: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The English Teacher’s Companion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(3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rebuchet MS"/>
              </a:rPr>
              <a:t>rd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Ed.). Portsmouth, NH: Heinemann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do you want students to have learned or done by the end of this unit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s the guiding or essential question you want them to be able to answer by the end of the unit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sider your readings, observations and the Common Core Standards as a starting poin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6612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y is this an important, valid objective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relationship does it have to what came before or to what students need to learn to prosper later in their live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ving decided where you want to go, now consider how you should get there. What will you model for student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will they demonstrate their understanding of key concepts or application of strategie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kinds of materials will your students produce (Ex. project, essay, dramatic performances, speeches, graphics, etc.)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much time should you allot for this unit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much work can you reasonably assume they will do each night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does this affect your use of class time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equipment or other resources do you need to teach this unit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do students need to know in order to understand this material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will you support all students in reaching the unit goal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must answer the following questions before you begin your unit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What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am I assessing in the end (e.g. their ability to take tests or their understanding of the characters or ideas discussed during the unit)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How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can I best assess this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60320" indent="-51408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Why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am I assessing this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obstacles might you reasonably expect to encounter during this unit of study (e.g. attitudes, limitations, resources, time)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will you solve those problems and why do you think this is an effective solution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2:27:05Z</dcterms:created>
  <dc:creator>Jeanine Beatty</dc:creator>
  <dc:description/>
  <dc:language>en-US</dc:language>
  <cp:lastModifiedBy>Darlene</cp:lastModifiedBy>
  <dcterms:modified xsi:type="dcterms:W3CDTF">2012-10-12T14:26:43Z</dcterms:modified>
  <cp:revision>1</cp:revision>
  <dc:subject/>
  <dc:title>Unit Plan Outline Brainstorming Ideas</dc:title>
</cp:coreProperties>
</file>